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498-AC73-4CEA-96F4-B1DF0FB4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A46-D4C2-45A4-8556-7D9CD70B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F79-4089-47FC-A170-EF78B1D3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49D-287C-40A3-B5F0-1B765082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FDF5-756E-43C8-9D35-01EA5350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2E44-467B-42C5-9AC2-B97F0D92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EF31-55A8-49AE-A4EA-E467F798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D16B-E28A-42F7-A37A-5CBCE40D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1699-2925-47E1-87E7-39284F5E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8FA2-9C61-4309-A07F-024467E0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7BA0-94E1-42AB-AC5D-4291748C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61E-F080-4C2A-9F2C-540930B4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A14-59CA-42DA-8B76-1598DA71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DD86-0CAA-453A-852E-A6D2CDC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1361-5302-41D7-94AF-5C027051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4546-426C-476C-831D-5A515A36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456F-ED82-42E1-94BB-FFD1BE81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918-24C9-4F7F-A0AC-2B66E2DA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964-83FC-41F3-8BAD-9C7456BB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B339-8DDF-4785-AE03-8EC8531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75B-EBD1-4D1C-A417-F401222F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7E6-F292-4A2A-BBCC-CC073E00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00B-3C1C-4F1C-AC60-D044557D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781-B685-48A2-B46F-17D6D08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986B-C2F6-48AA-897B-608A59406A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7699-EA99-42C9-BB04-98AEA39336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huji.ac.il/~nir/Nips01-Tutoria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4720" y="8186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ull observability &amp; known structure 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Getting the notation righ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model parameters (CPDs) are represented as 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(example la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raining data set 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want to find parameters to maximise P(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|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7150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lihood function L(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D) is P(D|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05200" y="4417920"/>
            <a:ext cx="3352680" cy="1160640"/>
            <a:chOff x="2905200" y="4417920"/>
            <a:chExt cx="3352680" cy="116064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905200" y="4568760"/>
                  <a:ext cx="33526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4374000" y="441792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LIKELIHOOD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4720" y="8186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ull observability &amp; known structure 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Getting the notation righ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95280" y="2895480"/>
            <a:ext cx="1981080" cy="1554120"/>
            <a:chOff x="1295280" y="2895480"/>
            <a:chExt cx="1981080" cy="1554120"/>
          </a:xfrm>
        </p:grpSpPr>
        <p:grpSp>
          <p:nvGrpSpPr>
            <p:cNvPr id="181" name=""/>
            <p:cNvGrpSpPr/>
            <p:nvPr/>
          </p:nvGrpSpPr>
          <p:grpSpPr>
            <a:xfrm>
              <a:off x="1295280" y="2895480"/>
              <a:ext cx="685800" cy="685800"/>
              <a:chOff x="1295280" y="2895480"/>
              <a:chExt cx="685800" cy="6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1295280" y="28954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35680" y="3033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935000" y="3763800"/>
              <a:ext cx="685800" cy="685800"/>
              <a:chOff x="1935000" y="3763800"/>
              <a:chExt cx="685800" cy="685800"/>
            </a:xfrm>
          </p:grpSpPr>
          <p:sp>
            <p:nvSpPr>
              <p:cNvPr id="185" name=""/>
              <p:cNvSpPr/>
              <p:nvPr/>
            </p:nvSpPr>
            <p:spPr>
              <a:xfrm>
                <a:off x="1935000" y="37638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75400" y="3901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590560" y="2895480"/>
              <a:ext cx="685800" cy="685800"/>
              <a:chOff x="2590560" y="2895480"/>
              <a:chExt cx="685800" cy="685800"/>
            </a:xfrm>
          </p:grpSpPr>
          <p:sp>
            <p:nvSpPr>
              <p:cNvPr id="188" name=""/>
              <p:cNvSpPr/>
              <p:nvPr/>
            </p:nvSpPr>
            <p:spPr>
              <a:xfrm>
                <a:off x="2590560" y="28954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0600" y="3033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828800" y="350496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514600" y="358128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59080" y="2379600"/>
            <a:ext cx="4038480" cy="2735280"/>
            <a:chOff x="4159080" y="2379600"/>
            <a:chExt cx="4038480" cy="2735280"/>
          </a:xfrm>
        </p:grpSpPr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159080" y="2989080"/>
                  <a:ext cx="4038480" cy="212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]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]</m:t>
                                </m:r>
                              </m:e>
                              <m:e>
                                <m:r>
                                  <m:t xml:space="preserve">O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]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</m:e>
                              <m:e>
                                <m:r>
                                  <m:t xml:space="preserve">O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>
              <a:off x="5322600" y="2379600"/>
              <a:ext cx="224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Training data D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494000" y="5348160"/>
                <a:ext cx="68580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4720" y="8186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orising the likelihood express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90720" y="3048120"/>
            <a:ext cx="1981080" cy="1554120"/>
            <a:chOff x="990720" y="3048120"/>
            <a:chExt cx="1981080" cy="1554120"/>
          </a:xfrm>
        </p:grpSpPr>
        <p:grpSp>
          <p:nvGrpSpPr>
            <p:cNvPr id="198" name=""/>
            <p:cNvGrpSpPr/>
            <p:nvPr/>
          </p:nvGrpSpPr>
          <p:grpSpPr>
            <a:xfrm>
              <a:off x="990720" y="3048120"/>
              <a:ext cx="685800" cy="685800"/>
              <a:chOff x="990720" y="3048120"/>
              <a:chExt cx="68580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990720" y="30481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31120" y="31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630440" y="3916440"/>
              <a:ext cx="685800" cy="685800"/>
              <a:chOff x="1630440" y="3916440"/>
              <a:chExt cx="685800" cy="685800"/>
            </a:xfrm>
          </p:grpSpPr>
          <p:sp>
            <p:nvSpPr>
              <p:cNvPr id="202" name=""/>
              <p:cNvSpPr/>
              <p:nvPr/>
            </p:nvSpPr>
            <p:spPr>
              <a:xfrm>
                <a:off x="1630440" y="391644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70840" y="4054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286000" y="3048120"/>
              <a:ext cx="685800" cy="685800"/>
              <a:chOff x="2286000" y="3048120"/>
              <a:chExt cx="685800" cy="685800"/>
            </a:xfrm>
          </p:grpSpPr>
          <p:sp>
            <p:nvSpPr>
              <p:cNvPr id="205" name=""/>
              <p:cNvSpPr/>
              <p:nvPr/>
            </p:nvSpPr>
            <p:spPr>
              <a:xfrm>
                <a:off x="2286000" y="30481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26040" y="3186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524240" y="365760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210040" y="373392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24080" y="2590920"/>
                <a:ext cx="58104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505400" y="3581280"/>
                <a:ext cx="388620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B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O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B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95280" y="5105520"/>
                <a:ext cx="74678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r>
                              <m:t xml:space="preserve">: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O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: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omposition in gen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828800" y="2895480"/>
                <a:ext cx="5486400" cy="24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: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r>
                              <m:t xml:space="preserve">: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rent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48480" y="551340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l the parameters for each node can be estimated separatel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stimating parameter for root nod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86800" y="2595600"/>
            <a:ext cx="4953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Let’s say our training data D contain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these values for A {T,F,T,T,F,T,T,T}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We represent our single parameter 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as th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probability that a=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The likelihood for the sequence is: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106880" y="5427720"/>
                <a:ext cx="48769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745200" y="4114800"/>
            <a:ext cx="3293280" cy="2775240"/>
            <a:chOff x="745200" y="4114800"/>
            <a:chExt cx="3293280" cy="2775240"/>
          </a:xfrm>
        </p:grpSpPr>
        <p:pic>
          <p:nvPicPr>
            <p:cNvPr id="219" name="diag1" descr=""/>
            <p:cNvPicPr/>
            <p:nvPr/>
          </p:nvPicPr>
          <p:blipFill>
            <a:blip r:embed="rId1"/>
            <a:stretch/>
          </p:blipFill>
          <p:spPr>
            <a:xfrm>
              <a:off x="990720" y="4114800"/>
              <a:ext cx="3047760" cy="23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482560" y="6491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182600">
              <a:off x="499320" y="4960080"/>
              <a:ext cx="8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D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426708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579680" y="2489040"/>
            <a:ext cx="1685880" cy="1527480"/>
            <a:chOff x="1579680" y="2489040"/>
            <a:chExt cx="1685880" cy="1527480"/>
          </a:xfrm>
        </p:grpSpPr>
        <p:sp>
          <p:nvSpPr>
            <p:cNvPr id="224" name=""/>
            <p:cNvSpPr/>
            <p:nvPr/>
          </p:nvSpPr>
          <p:spPr>
            <a:xfrm>
              <a:off x="1930680" y="3089520"/>
              <a:ext cx="201960" cy="266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537280" y="3155760"/>
              <a:ext cx="337320" cy="200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79680" y="2489040"/>
              <a:ext cx="741600" cy="600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83440" y="256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23600" y="2517840"/>
              <a:ext cx="741960" cy="600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25920" y="2591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3080" y="3416040"/>
              <a:ext cx="741600" cy="600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43160" y="350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bout the prior on </a:t>
            </a:r>
            <a:r>
              <a:rPr b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79400" y="2554200"/>
                <a:ext cx="54864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353240" y="3755880"/>
            <a:ext cx="705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have an expression for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(a[1],…,a[M])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ll we ne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do now is to say something about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295280" y="4800600"/>
                <a:ext cx="6821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449720" y="5403960"/>
            <a:ext cx="6735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f all values of 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were equally likely at the outset, then we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have a </a:t>
            </a: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MAXIMUM LIKELIHOOD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ESTIMATE (MLE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for P(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|a[1],…,a[M]) which for our example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0.75 I.e. p(a=T is 0.7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bout the prior on </a:t>
            </a:r>
            <a:r>
              <a:rPr b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295280" y="2514600"/>
                <a:ext cx="6821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952560" y="3268800"/>
            <a:ext cx="761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f P(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) is not uniform, we need to take that into account whe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computing our estimate for a model parameter. In that cas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P(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|x[1],…,x[M]) would be a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MAXIMUM APOSTERIORI PROBABILITY (MAP)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estimat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There are many different forms of prior, one of the more commo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ones in this application is the </a:t>
            </a: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DIRICHLET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prior …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Dirichlet pri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76520" y="2590920"/>
            <a:ext cx="5797080" cy="3890160"/>
            <a:chOff x="1676520" y="2590920"/>
            <a:chExt cx="5797080" cy="3890160"/>
          </a:xfrm>
        </p:grpSpPr>
        <p:pic>
          <p:nvPicPr>
            <p:cNvPr id="242" name="diag2" descr=""/>
            <p:cNvPicPr/>
            <p:nvPr/>
          </p:nvPicPr>
          <p:blipFill>
            <a:blip r:embed="rId1"/>
            <a:stretch/>
          </p:blipFill>
          <p:spPr>
            <a:xfrm>
              <a:off x="2070000" y="2590920"/>
              <a:ext cx="54036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10160" y="6021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1487160" y="3894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6880" y="3238560"/>
              <a:ext cx="215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Dirichlet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antic pri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aining data D is sorted into known classes, the priors can be estimate beforehand. These are called “semantic prior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nvolves an element of hand coding and loses the advantage gaining some insight into the problem doma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 give the advantage of mapping into expert knowledge of the classes in the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4720" y="8186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imation relies on sufficient statis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ML estimate for discrete valued nodes, we use counts #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5200" y="50785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MAP estimate, we have to account for the pri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52480" y="3886200"/>
                <a:ext cx="5780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ent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ent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examples</m:t>
                        </m:r>
                        <m:r>
                          <m:rPr>
                            <m:lit/>
                            <m:nor/>
                          </m:rPr>
                          <m:t xml:space="preserve">mappin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ent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Bayesian Belief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xonomy of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BBNs for the fully observable data and known structure c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verview of methods for learning BB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ull data and un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rtial data and 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rtial data and un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cellent tutorial at by Koller and Friedman: </a:t>
            </a:r>
            <a:r>
              <a:rPr b="0" lang="en-GB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s.huji.ac.il/~nir/Nips01-Tutorial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me of today’s slides were adapted from that tuto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BBN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514600"/>
            <a:ext cx="80294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with uncertain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: What is a BB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9880" y="2452680"/>
          <a:ext cx="1110960" cy="671400"/>
        </p:xfrm>
        <a:graphic>
          <a:graphicData uri="http://schemas.openxmlformats.org/drawingml/2006/table">
            <a:tbl>
              <a:tblPr/>
              <a:tblGrid>
                <a:gridCol w="111096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a=detect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900600" y="2438280"/>
          <a:ext cx="1110960" cy="671760"/>
        </p:xfrm>
        <a:graphic>
          <a:graphicData uri="http://schemas.openxmlformats.org/drawingml/2006/table">
            <a:tbl>
              <a:tblPr/>
              <a:tblGrid>
                <a:gridCol w="1110960"/>
              </a:tblGrid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b=detect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45040" y="3260880"/>
          <a:ext cx="1904760" cy="1768320"/>
        </p:xfrm>
        <a:graphic>
          <a:graphicData uri="http://schemas.openxmlformats.org/drawingml/2006/table">
            <a:tbl>
              <a:tblPr/>
              <a:tblGrid>
                <a:gridCol w="533160"/>
                <a:gridCol w="381240"/>
                <a:gridCol w="99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o=T|A,B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808440" y="5500800"/>
          <a:ext cx="1447920" cy="1087200"/>
        </p:xfrm>
        <a:graphic>
          <a:graphicData uri="http://schemas.openxmlformats.org/drawingml/2006/table">
            <a:tbl>
              <a:tblPr/>
              <a:tblGrid>
                <a:gridCol w="534960"/>
                <a:gridCol w="912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n=T|O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60480" y="5546880"/>
          <a:ext cx="1447920" cy="1066680"/>
        </p:xfrm>
        <a:graphic>
          <a:graphicData uri="http://schemas.openxmlformats.org/drawingml/2006/table">
            <a:tbl>
              <a:tblPr/>
              <a:tblGrid>
                <a:gridCol w="533520"/>
                <a:gridCol w="914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c=T|O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6033960" y="2408400"/>
            <a:ext cx="295776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mpact representation of the joint probability 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Each variable is represented as a node. 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nditional independence assumptions are encoded using a set of arcs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Different types of graph exist. The one shown is a Directed Acyclic Graph (DAG)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22480" y="3197160"/>
            <a:ext cx="1620360" cy="2144520"/>
            <a:chOff x="2022480" y="3197160"/>
            <a:chExt cx="1620360" cy="2144520"/>
          </a:xfrm>
        </p:grpSpPr>
        <p:sp>
          <p:nvSpPr>
            <p:cNvPr id="107" name=""/>
            <p:cNvSpPr/>
            <p:nvPr/>
          </p:nvSpPr>
          <p:spPr>
            <a:xfrm>
              <a:off x="2377800" y="3727800"/>
              <a:ext cx="213120" cy="26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003120" y="3766320"/>
              <a:ext cx="355680" cy="19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377800" y="4523760"/>
              <a:ext cx="355680" cy="26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8360" y="4523760"/>
              <a:ext cx="284400" cy="26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2480" y="3197160"/>
              <a:ext cx="639720" cy="530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01680" y="3219120"/>
              <a:ext cx="639720" cy="530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0560" y="3991680"/>
              <a:ext cx="639720" cy="530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03120" y="4811400"/>
              <a:ext cx="639720" cy="530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66760" y="4789080"/>
              <a:ext cx="639720" cy="530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5120" y="3276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05360" y="327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9720" y="4046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3920" y="4861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73760" y="486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y is learning important in the context of BB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ledge acquisition can be an expensive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ts may not be readily available (scarce knowledge) or simply not ex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you might have a lot of data from (say) case stud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allows us to construct BBN models from the data and in the process gain insight into the nature of the problem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ocess of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920" y="4479840"/>
            <a:ext cx="2590920" cy="144792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del struc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if know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3920" y="2651040"/>
            <a:ext cx="2590920" cy="144792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Data (may be full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or partial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9760" y="3718080"/>
            <a:ext cx="1676160" cy="129528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0800" y="40989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8520" y="3641760"/>
            <a:ext cx="53352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444840" y="4784400"/>
            <a:ext cx="45720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BBNpic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2590560" cy="212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72200" y="3048120"/>
            <a:ext cx="2773440" cy="2408040"/>
          </a:xfrm>
          <a:prstGeom prst="rect">
            <a:avLst/>
          </a:prstGeom>
          <a:solidFill>
            <a:srgbClr val="ffffe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we mean by “partial” dat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3680" y="2717640"/>
            <a:ext cx="793908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ining data where there are missing values e.g.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13520" y="3336840"/>
          <a:ext cx="2209680" cy="316872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584360" y="525312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crete valued BB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th 3 no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57400" y="3505320"/>
            <a:ext cx="1905120" cy="1744560"/>
            <a:chOff x="2057400" y="3505320"/>
            <a:chExt cx="1905120" cy="1744560"/>
          </a:xfrm>
        </p:grpSpPr>
        <p:sp>
          <p:nvSpPr>
            <p:cNvPr id="137" name=""/>
            <p:cNvSpPr/>
            <p:nvPr/>
          </p:nvSpPr>
          <p:spPr>
            <a:xfrm>
              <a:off x="2454120" y="4191120"/>
              <a:ext cx="22860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39560" y="4267080"/>
              <a:ext cx="38124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3505320"/>
              <a:ext cx="838080" cy="6858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720" y="358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4080" y="3538440"/>
              <a:ext cx="838440" cy="6858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3040" y="362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92360" y="4564080"/>
              <a:ext cx="838080" cy="6858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07280" y="466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we mean by “known” and “unknown” structur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181480" y="3276720"/>
            <a:ext cx="685800" cy="685800"/>
            <a:chOff x="5181480" y="3276720"/>
            <a:chExt cx="685800" cy="685800"/>
          </a:xfrm>
        </p:grpSpPr>
        <p:sp>
          <p:nvSpPr>
            <p:cNvPr id="147" name=""/>
            <p:cNvSpPr/>
            <p:nvPr/>
          </p:nvSpPr>
          <p:spPr>
            <a:xfrm>
              <a:off x="5181480" y="3276720"/>
              <a:ext cx="685800" cy="6858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21880" y="34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821200" y="4145040"/>
            <a:ext cx="685800" cy="685800"/>
            <a:chOff x="5821200" y="4145040"/>
            <a:chExt cx="685800" cy="685800"/>
          </a:xfrm>
        </p:grpSpPr>
        <p:sp>
          <p:nvSpPr>
            <p:cNvPr id="150" name=""/>
            <p:cNvSpPr/>
            <p:nvPr/>
          </p:nvSpPr>
          <p:spPr>
            <a:xfrm>
              <a:off x="5821200" y="4145040"/>
              <a:ext cx="685800" cy="6858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61600" y="4282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77120" y="3276720"/>
            <a:ext cx="685800" cy="685800"/>
            <a:chOff x="6477120" y="3276720"/>
            <a:chExt cx="685800" cy="685800"/>
          </a:xfrm>
        </p:grpSpPr>
        <p:sp>
          <p:nvSpPr>
            <p:cNvPr id="153" name=""/>
            <p:cNvSpPr/>
            <p:nvPr/>
          </p:nvSpPr>
          <p:spPr>
            <a:xfrm>
              <a:off x="6477120" y="3276720"/>
              <a:ext cx="685800" cy="6858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7160" y="34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752840" y="5105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nown struc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05120" y="3276720"/>
            <a:ext cx="1981080" cy="1554120"/>
            <a:chOff x="1905120" y="3276720"/>
            <a:chExt cx="1981080" cy="1554120"/>
          </a:xfrm>
        </p:grpSpPr>
        <p:grpSp>
          <p:nvGrpSpPr>
            <p:cNvPr id="157" name=""/>
            <p:cNvGrpSpPr/>
            <p:nvPr/>
          </p:nvGrpSpPr>
          <p:grpSpPr>
            <a:xfrm>
              <a:off x="1905120" y="3276720"/>
              <a:ext cx="685800" cy="685800"/>
              <a:chOff x="1905120" y="3276720"/>
              <a:chExt cx="685800" cy="685800"/>
            </a:xfrm>
          </p:grpSpPr>
          <p:sp>
            <p:nvSpPr>
              <p:cNvPr id="158" name=""/>
              <p:cNvSpPr/>
              <p:nvPr/>
            </p:nvSpPr>
            <p:spPr>
              <a:xfrm>
                <a:off x="1905120" y="32767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045520" y="34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544840" y="4145040"/>
              <a:ext cx="685800" cy="685800"/>
              <a:chOff x="2544840" y="4145040"/>
              <a:chExt cx="685800" cy="685800"/>
            </a:xfrm>
          </p:grpSpPr>
          <p:sp>
            <p:nvSpPr>
              <p:cNvPr id="161" name=""/>
              <p:cNvSpPr/>
              <p:nvPr/>
            </p:nvSpPr>
            <p:spPr>
              <a:xfrm>
                <a:off x="2544840" y="414504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85240" y="4282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200400" y="3276720"/>
              <a:ext cx="685800" cy="685800"/>
              <a:chOff x="3200400" y="3276720"/>
              <a:chExt cx="685800" cy="685800"/>
            </a:xfrm>
          </p:grpSpPr>
          <p:sp>
            <p:nvSpPr>
              <p:cNvPr id="164" name=""/>
              <p:cNvSpPr/>
              <p:nvPr/>
            </p:nvSpPr>
            <p:spPr>
              <a:xfrm>
                <a:off x="3200400" y="32767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40440" y="3414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2438640" y="388620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124440" y="396252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910760" y="51084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known struc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xonomy of learning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00200" y="2514600"/>
          <a:ext cx="5943600" cy="2066760"/>
        </p:xfrm>
        <a:graphic>
          <a:graphicData uri="http://schemas.openxmlformats.org/drawingml/2006/table">
            <a:tbl>
              <a:tblPr/>
              <a:tblGrid>
                <a:gridCol w="628560"/>
                <a:gridCol w="971640"/>
                <a:gridCol w="2571840"/>
                <a:gridCol w="1771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el structu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6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ximum likelihood estimati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arch through model sp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ti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ctation Maximisation (EM) or gradient descent(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 + search through model space (structural EM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 rot="16200000">
            <a:off x="1127880" y="36975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Observabilit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472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"/>
              </a:rPr>
              <a:t>In this lecture we will look at the full observability and known model structure case in detai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"/>
              </a:rPr>
              <a:t>In the next lecture we will take an overview of the other three cas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40:42Z</dcterms:modified>
  <cp:revision>81</cp:revision>
  <dc:subject/>
  <dc:title>Markov Models</dc:title>
</cp:coreProperties>
</file>